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D812-65CC-413D-A2FC-C44DA86A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F2E7-4EAE-4E66-95AC-27164112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5A2A-F681-47F5-B531-6255BCF4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D9B6-4C10-4FE4-8719-BC12F257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8A55-411E-41AB-A4E3-0FE474B0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880-6182-4591-9E8E-8B5D1D63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6D9B-02E1-4938-8DAA-B5594D26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DC93-9FD3-4D46-ABB2-E3AA3CEC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6175-5B83-4049-887C-E3542A88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DBFA-0DED-473C-98F3-CADCCA19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D0A5-A6F0-44E9-B44E-44E34002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459C-5D00-48BE-AFEB-D0026B3D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1C39-6BD8-4767-85CF-B4A51B48A911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poeziile.com/" TargetMode="External"/><Relationship Id="rId3" Type="http://schemas.openxmlformats.org/officeDocument/2006/relationships/hyperlink" Target="http://www.romanianvoice.com/" TargetMode="External"/><Relationship Id="rId4" Type="http://schemas.openxmlformats.org/officeDocument/2006/relationships/hyperlink" Target="http://www.didactic.ro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000000"/>
                </a:solidFill>
                <a:latin typeface="Edwardian Script ITC"/>
              </a:rPr>
              <a:t>Luna- </a:t>
            </a:r>
            <a:br>
              <a:rPr sz="7200"/>
            </a:br>
            <a:r>
              <a:rPr b="1" lang="ro-RO" sz="4800" spc="-1" strike="noStrike">
                <a:solidFill>
                  <a:srgbClr val="000000"/>
                </a:solidFill>
                <a:latin typeface="Edwardian Script ITC"/>
              </a:rPr>
              <a:t>motiv poet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Script MT Bold"/>
              </a:rPr>
              <a:t>Soos Cristina 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Script MT Bold"/>
              </a:rPr>
              <a:t>Cls. a XI-a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Script MT Bold"/>
              </a:rPr>
              <a:t>Prof. Chis Dan Liv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Script MT Bold"/>
              </a:rPr>
              <a:t>Semnificaţia  lunii   în   poez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155736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1844640"/>
            <a:ext cx="78120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Astrul nocturn este „un instrument de măsură universal” al timpului, ritmând viaţa şi moartea deopotrivă, de aceea, nu este deloc neobisnuit că luna a fost, simultan, privită ca simbol al fertilitătii şi ca simbol al morţ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Luna este un simbol plurivalent, care apare cuprecădere î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poezia romantică. Astfel, ea intră în scenariul  noc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al  poemului romantic nu numai ca el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obligatoriu, ci şi ca topos literar de mare prestigi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indicând  prezenţa imaginarului poet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0000"/>
                </a:solidFill>
                <a:uFillTx/>
                <a:latin typeface="Script MT Bold"/>
              </a:rPr>
              <a:t>Poezii în care este valorificat motivul lun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Să vânăm lumina lunii” –Adrian Păunesc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ătre lună” -Ştefan Octavian Ios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Sara pe deal” - Mihai Emines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Luna” şi “Noaptea” -Alexandru Vlahuţ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“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Romanţa” –George Baco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“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Sonata lunii” Lucian Bl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1197000"/>
            <a:ext cx="431640" cy="79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08360" y="1125360"/>
            <a:ext cx="790560" cy="790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7451640" y="1197000"/>
            <a:ext cx="43200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340000" y="333360"/>
            <a:ext cx="40100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ă vânăm lumina lunii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Adrian Păunescu -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13840" y="2206080"/>
            <a:ext cx="2869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Doamnă a deşertăciunii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are n-ai să pleci-napoi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să vânăm lumina lunii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u-ntunericul din no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Să vânăm plângând la noapte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lacrimi mari din ochii goi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să vânăm lunare şoapte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u-ntunericul din no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Să vânăm vânatul dulce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are eşti şi care sunt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şi tot fuge pe pământ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şi-ar veni şi iar s-ar smul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Doamnă, ce ne-arată luna?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Vânător - vânat sunt u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480" y="907920"/>
            <a:ext cx="254736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Lună, tu, care te duci peste zi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O, ce se-ntâmplă cu tine?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Spune, crăiasă a nopţilor şi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Candelă a nopţilor line!</a:t>
            </a:r>
            <a:br>
              <a:rPr sz="1200"/>
            </a:b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orţă de-argint ce spânzură-n cer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ristă, şi palidă liră.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aină a nopţii, vrajă, mister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Cântec în somn ce suspină!</a:t>
            </a:r>
            <a:br>
              <a:rPr sz="1200"/>
            </a:b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u, ce ningi floare de-argint pe alei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Şi argintoase prin ramuri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Faci ca să picure ploi pe scântei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Pui poleială pe geamuri.</a:t>
            </a:r>
            <a:br>
              <a:rPr sz="1200"/>
            </a:b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u, ce-n frumoasele nopţi de florar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Şi-n drăgăstoasa lui lună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Când îşi recapătă versul ei clar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Privighetoarea nebună,</a:t>
            </a:r>
            <a:br>
              <a:rPr sz="1200"/>
            </a:b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u, care spânzuri o candelă sus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Albă în noaptea cea sumbră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Şi luminezi pe divinul Isus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Chipu-i ce luce din umbră,</a:t>
            </a:r>
            <a:br>
              <a:rPr sz="1200"/>
            </a:b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u, ce pe vârfuri de brazi îţi strecori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Horbota, albă podoabă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Duci în genune albastrele flori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Care pălesc prea degrabă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981000"/>
            <a:ext cx="2521080" cy="52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u, care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 rătăcitoare năluci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Faci să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 umble-n portaluri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Negre 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fantome aduci la răscruci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Farmec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 urzeşti peste valuri.</a:t>
            </a:r>
            <a:br>
              <a:rPr sz="1200"/>
            </a:b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u, care tremuri pe ape uşor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Horbotă albastră şi fină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Faci un palat strălucit dintr-un nor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Şi îl inunzi în lumină.</a:t>
            </a:r>
            <a:br>
              <a:rPr sz="1200"/>
            </a:b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u, întristatul, tăcutul străjer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Crai trist de veghe, când ţie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Stelele-ţi spun poveşti de mister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ainice-n pacea târzie.</a:t>
            </a:r>
            <a:br>
              <a:rPr sz="1200"/>
            </a:b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Înger de pază cu braţ de argint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Crainic al nopţii senine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Scuturi în orice ascuns labirint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Dulce parfum de verbine.</a:t>
            </a:r>
            <a:br>
              <a:rPr sz="1200"/>
            </a:b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u, ce ne porţi pe drumuri pustii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Până la graniţa zării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Şi străluceşti peste dealuri, câmpii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Şi ape pustii ale mării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u, ce străbaţi printr-un nour încet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Ca prin tăcute palate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ristă şi pală, ca Lady Macbeth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Ganguri întuneca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981000"/>
            <a:ext cx="2376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u, care tremuri pe trestii şi-arunci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Firele lungi de beteală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Şi rătăceşti prin văi şi pe lunci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ristă şi alb-ideală.</a:t>
            </a:r>
            <a:br>
              <a:rPr sz="1200"/>
            </a:b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u, ce fecioarele mi le-ncununi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Cu diademe de rază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Şi te-adânceşti printre negre genuni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Unde Satana veghează.</a:t>
            </a:r>
            <a:br>
              <a:rPr sz="1200"/>
            </a:b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Sunet al nopţii, duh protector!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Rază eternă şi vie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Duhul meu saltă cuprins de fior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Şi preamărire-ţi cânt Ţ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360" y="0"/>
            <a:ext cx="378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Ştefan Octavian Iosif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932360" y="0"/>
            <a:ext cx="19144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- Către lună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68360" y="549360"/>
            <a:ext cx="2943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Mihai Eminescu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3280" y="620640"/>
            <a:ext cx="2362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-Sara pe deal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1773360"/>
            <a:ext cx="655164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Sara pe deal buciumul suna cu jale, </a:t>
            </a:r>
            <a:br>
              <a:rPr sz="1300"/>
            </a:b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Turmele-l urc, stele le scapara-n cale, </a:t>
            </a:r>
            <a:br>
              <a:rPr sz="1300"/>
            </a:b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Apele plâng, clar izvorând în fântâne; </a:t>
            </a:r>
            <a:br>
              <a:rPr sz="1300"/>
            </a:b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Sub un salcâm, draga, m-astepti tu pe mi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Luna pe cer trece-asa sfânta si clara, </a:t>
            </a:r>
            <a:br>
              <a:rPr sz="1300"/>
            </a:b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Ochii tai mari cauta-n frunza cea rara, </a:t>
            </a:r>
            <a:br>
              <a:rPr sz="1300"/>
            </a:b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Stelele nasc umezi pe bolta senina, </a:t>
            </a:r>
            <a:br>
              <a:rPr sz="1300"/>
            </a:b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Pieptul de dor, fruntea de gânduri ti-e plin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ffffff"/>
                </a:solidFill>
                <a:latin typeface="Times New Roman"/>
              </a:rPr>
              <a:t>Nourii curg, raze-a lor siruri despica, </a:t>
            </a:r>
            <a:br>
              <a:rPr sz="1300"/>
            </a:br>
            <a:r>
              <a:rPr b="1" lang="ro-RO" sz="1300" spc="-1" strike="noStrike">
                <a:solidFill>
                  <a:srgbClr val="ffffff"/>
                </a:solidFill>
                <a:latin typeface="Times New Roman"/>
              </a:rPr>
              <a:t>Stresine vechi casele-n luna ridica, </a:t>
            </a:r>
            <a:br>
              <a:rPr sz="1300"/>
            </a:br>
            <a:r>
              <a:rPr b="1" lang="ro-RO" sz="1300" spc="-1" strike="noStrike">
                <a:solidFill>
                  <a:srgbClr val="ffffff"/>
                </a:solidFill>
                <a:latin typeface="Times New Roman"/>
              </a:rPr>
              <a:t>Scârtâie-n vânt cumpana de la fântâna, </a:t>
            </a:r>
            <a:br>
              <a:rPr sz="1300"/>
            </a:br>
            <a:r>
              <a:rPr b="1" lang="ro-RO" sz="1300" spc="-1" strike="noStrike">
                <a:solidFill>
                  <a:srgbClr val="ffffff"/>
                </a:solidFill>
                <a:latin typeface="Times New Roman"/>
              </a:rPr>
              <a:t>Valea-i în fum, fluiere murmura-n stân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1773360"/>
            <a:ext cx="33847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Si osteniti oameni cu coasa-n spinare </a:t>
            </a:r>
            <a:br>
              <a:rPr sz="1300"/>
            </a:b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Vin de la câmp; toaca rasuna mai tare, </a:t>
            </a:r>
            <a:br>
              <a:rPr sz="1300"/>
            </a:b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Clopotul vechi împle cu glasul lui sara, </a:t>
            </a:r>
            <a:br>
              <a:rPr sz="1300"/>
            </a:b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Sufletul meu arde-n iubire ca par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Ah! în curând satul în vale-amuteste; </a:t>
            </a:r>
            <a:br>
              <a:rPr sz="1300"/>
            </a:b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Ah! în curând pasu-mi spre tine grabeste: </a:t>
            </a:r>
            <a:br>
              <a:rPr sz="1300"/>
            </a:b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Lânga salcâm sta-vom noi noaptea întreaga, </a:t>
            </a:r>
            <a:br>
              <a:rPr sz="1300"/>
            </a:b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Ore întregi spune-ti-voi cât îmi esti drag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ffffff"/>
                </a:solidFill>
                <a:latin typeface="Times New Roman"/>
              </a:rPr>
              <a:t>Ne-om razima capetele-unul de altul </a:t>
            </a:r>
            <a:br>
              <a:rPr sz="1300"/>
            </a:br>
            <a:r>
              <a:rPr b="1" lang="ro-RO" sz="1300" spc="-1" strike="noStrike">
                <a:solidFill>
                  <a:srgbClr val="ffffff"/>
                </a:solidFill>
                <a:latin typeface="Times New Roman"/>
              </a:rPr>
              <a:t>Si surâzând vom adormi sub înaltul, </a:t>
            </a:r>
            <a:br>
              <a:rPr sz="1300"/>
            </a:br>
            <a:r>
              <a:rPr b="1" lang="ro-RO" sz="1300" spc="-1" strike="noStrike">
                <a:solidFill>
                  <a:srgbClr val="ffffff"/>
                </a:solidFill>
                <a:latin typeface="Times New Roman"/>
              </a:rPr>
              <a:t>Vechiul salcâm. � Astfel de noapte bogata, </a:t>
            </a:r>
            <a:br>
              <a:rPr sz="1300"/>
            </a:br>
            <a:r>
              <a:rPr b="1" lang="ro-RO" sz="1300" spc="-1" strike="noStrike">
                <a:solidFill>
                  <a:srgbClr val="ffffff"/>
                </a:solidFill>
                <a:latin typeface="Times New Roman"/>
              </a:rPr>
              <a:t>Cine pe ea n-ar da viata lui toata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207760" y="2563920"/>
            <a:ext cx="4097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bbe0e3"/>
                </a:solidFill>
                <a:latin typeface="Times New Roman"/>
              </a:rPr>
              <a:t>Sonata lunii de Beethoven</a:t>
            </a:r>
            <a:br>
              <a:rPr sz="2000"/>
            </a:br>
            <a:r>
              <a:rPr b="0" lang="ro-RO" sz="2000" spc="-1" strike="noStrike">
                <a:solidFill>
                  <a:srgbClr val="bbe0e3"/>
                </a:solidFill>
                <a:latin typeface="Times New Roman"/>
              </a:rPr>
              <a:t>e înăşi luna coborîtă pe pămînt.</a:t>
            </a:r>
            <a:br>
              <a:rPr sz="2000"/>
            </a:br>
            <a:r>
              <a:rPr b="0" lang="ro-RO" sz="2000" spc="-1" strike="noStrike">
                <a:solidFill>
                  <a:srgbClr val="bbe0e3"/>
                </a:solidFill>
                <a:latin typeface="Times New Roman"/>
              </a:rPr>
              <a:t>Aşa s-ar crede şi aşa s-ar zice:</a:t>
            </a:r>
            <a:br>
              <a:rPr sz="2000"/>
            </a:br>
            <a:r>
              <a:rPr b="0" lang="ro-RO" sz="2000" spc="-1" strike="noStrike">
                <a:solidFill>
                  <a:srgbClr val="bbe0e3"/>
                </a:solidFill>
                <a:latin typeface="Times New Roman"/>
              </a:rPr>
              <a:t>luna ce umblă prin păduri,</a:t>
            </a:r>
            <a:br>
              <a:rPr sz="2000"/>
            </a:br>
            <a:r>
              <a:rPr b="0" lang="ro-RO" sz="2000" spc="-1" strike="noStrike">
                <a:solidFill>
                  <a:srgbClr val="bbe0e3"/>
                </a:solidFill>
                <a:latin typeface="Times New Roman"/>
              </a:rPr>
              <a:t>prin rouă-albastră şi prin flori de crini,</a:t>
            </a:r>
            <a:br>
              <a:rPr sz="2000"/>
            </a:br>
            <a:r>
              <a:rPr b="0" lang="ro-RO" sz="2000" spc="-1" strike="noStrike">
                <a:solidFill>
                  <a:srgbClr val="bbe0e3"/>
                </a:solidFill>
                <a:latin typeface="Times New Roman"/>
              </a:rPr>
              <a:t>şi-alcătuieşte din lumini</a:t>
            </a:r>
            <a:br>
              <a:rPr sz="2000"/>
            </a:br>
            <a:r>
              <a:rPr b="0" lang="ro-RO" sz="2000" spc="-1" strike="noStrike">
                <a:solidFill>
                  <a:srgbClr val="bbe0e3"/>
                </a:solidFill>
                <a:latin typeface="Times New Roman"/>
              </a:rPr>
              <a:t>amare şi din dulce vînt</a:t>
            </a:r>
            <a:br>
              <a:rPr sz="2000"/>
            </a:br>
            <a:r>
              <a:rPr b="0" lang="ro-RO" sz="2000" spc="-1" strike="noStrike">
                <a:solidFill>
                  <a:srgbClr val="317277"/>
                </a:solidFill>
                <a:latin typeface="Times New Roman"/>
              </a:rPr>
              <a:t>Ofelii, </a:t>
            </a:r>
            <a:r>
              <a:rPr b="0" lang="ro-RO" sz="2000" spc="-1" strike="noStrike">
                <a:solidFill>
                  <a:srgbClr val="bbe0e3"/>
                </a:solidFill>
                <a:latin typeface="Times New Roman"/>
              </a:rPr>
              <a:t>Margarete, Beatrice.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bbe0e3"/>
                </a:solidFill>
                <a:latin typeface="Times New Roman"/>
              </a:rPr>
              <a:t>Printre acestea te alegi şi tu,</a:t>
            </a:r>
            <a:br>
              <a:rPr sz="2000"/>
            </a:br>
            <a:r>
              <a:rPr b="0" lang="ro-RO" sz="2000" spc="-1" strike="noStrike">
                <a:solidFill>
                  <a:srgbClr val="bbe0e3"/>
                </a:solidFill>
                <a:latin typeface="Times New Roman"/>
              </a:rPr>
              <a:t>ca o parte din Sonată</a:t>
            </a:r>
            <a:br>
              <a:rPr sz="2000"/>
            </a:br>
            <a:r>
              <a:rPr b="0" lang="ro-RO" sz="2000" spc="-1" strike="noStrike">
                <a:solidFill>
                  <a:srgbClr val="bbe0e3"/>
                </a:solidFill>
                <a:latin typeface="Times New Roman"/>
              </a:rPr>
              <a:t>ce încă niciodată</a:t>
            </a:r>
            <a:br>
              <a:rPr sz="2000"/>
            </a:br>
            <a:r>
              <a:rPr b="0" lang="ro-RO" sz="2000" spc="-1" strike="noStrike">
                <a:solidFill>
                  <a:srgbClr val="bbe0e3"/>
                </a:solidFill>
                <a:latin typeface="Times New Roman"/>
              </a:rPr>
              <a:t>nu a fost cîntat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260280"/>
            <a:ext cx="470556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Script MT Bold"/>
              </a:rPr>
              <a:t>Lucian Blaga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9640" y="1628640"/>
            <a:ext cx="407664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Script MT Bold"/>
              </a:rPr>
              <a:t>Sonata lunii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Bradley Hand ITC"/>
              </a:rPr>
              <a:t>       </a:t>
            </a:r>
            <a:r>
              <a:rPr b="1" lang="ro-RO" sz="4400" spc="-1" strike="noStrike">
                <a:solidFill>
                  <a:srgbClr val="ffffff"/>
                </a:solidFill>
                <a:latin typeface="Bradley Hand ITC"/>
              </a:rPr>
              <a:t>BIBLIOGRAF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poezii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romanianvoic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didactic.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8:15:34Z</dcterms:created>
  <dc:creator>CHANGE_ME1</dc:creator>
  <dc:description/>
  <dc:language>en-US</dc:language>
  <cp:lastModifiedBy>CHANGE_ME1</cp:lastModifiedBy>
  <dcterms:modified xsi:type="dcterms:W3CDTF">2011-11-06T13:09:33Z</dcterms:modified>
  <cp:revision>4</cp:revision>
  <dc:subject/>
  <dc:title>Luna,  motiv poet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